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j0205402"/>
          <p:cNvPicPr/>
          <p:nvPr/>
        </p:nvPicPr>
        <p:blipFill>
          <a:blip r:embed="rId1"/>
          <a:stretch/>
        </p:blipFill>
        <p:spPr>
          <a:xfrm>
            <a:off x="7093080" y="549360"/>
            <a:ext cx="140940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0205402"/>
          <p:cNvPicPr/>
          <p:nvPr/>
        </p:nvPicPr>
        <p:blipFill>
          <a:blip r:embed="rId2"/>
          <a:stretch/>
        </p:blipFill>
        <p:spPr>
          <a:xfrm>
            <a:off x="684360" y="5157720"/>
            <a:ext cx="140940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j0205402"/>
          <p:cNvPicPr/>
          <p:nvPr/>
        </p:nvPicPr>
        <p:blipFill>
          <a:blip r:embed="rId3"/>
          <a:stretch/>
        </p:blipFill>
        <p:spPr>
          <a:xfrm>
            <a:off x="539640" y="54936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:\Организатор клипов (Microsoft)\картинки на школьныю тему\картинки на школьныю тему\Рисунок15.png"/>
          <p:cNvPicPr/>
          <p:nvPr/>
        </p:nvPicPr>
        <p:blipFill>
          <a:blip r:embed="rId4"/>
          <a:stretch/>
        </p:blipFill>
        <p:spPr>
          <a:xfrm>
            <a:off x="2646360" y="2408400"/>
            <a:ext cx="2522520" cy="386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3857760" y="63583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бъект WordArt 12"/>
          <p:cNvSpPr txBox="1"/>
          <p:nvPr/>
        </p:nvSpPr>
        <p:spPr>
          <a:xfrm>
            <a:off x="1908000" y="1916280"/>
            <a:ext cx="49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Квадратные урав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Bookman Old Style"/>
              </a:rPr>
              <a:t>Алгоритм решения</a:t>
            </a:r>
            <a:endParaRPr b="0" lang="en-US" sz="36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57160" y="1928880"/>
            <a:ext cx="7715520" cy="440352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.Переносим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в правую часть урав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а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Bookman Old Style"/>
              </a:rPr>
              <a:t>2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= -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2.Делим обе части уравнения на а≠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Bookman Old Style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=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.Если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&gt;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- два реш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х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Bookman Old Style"/>
                <a:ea typeface="Arial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    и  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х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Bookman Old Style"/>
                <a:ea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 =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Если     </a:t>
            </a:r>
            <a:r>
              <a:rPr b="1" lang="en-US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&lt;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  <a:ea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- нет решений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857760" y="857160"/>
            <a:ext cx="158580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1"/>
          <a:stretch/>
        </p:blipFill>
        <p:spPr>
          <a:xfrm>
            <a:off x="1928880" y="4786200"/>
            <a:ext cx="561960" cy="295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6" descr=""/>
          <p:cNvPicPr/>
          <p:nvPr/>
        </p:nvPicPr>
        <p:blipFill>
          <a:blip r:embed="rId2"/>
          <a:stretch/>
        </p:blipFill>
        <p:spPr>
          <a:xfrm>
            <a:off x="4214880" y="4786200"/>
            <a:ext cx="561960" cy="295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8" descr=""/>
          <p:cNvPicPr/>
          <p:nvPr/>
        </p:nvPicPr>
        <p:blipFill>
          <a:blip r:embed="rId3"/>
          <a:stretch/>
        </p:blipFill>
        <p:spPr>
          <a:xfrm>
            <a:off x="4786200" y="3571920"/>
            <a:ext cx="238320" cy="457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0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1" descr=""/>
          <p:cNvPicPr/>
          <p:nvPr/>
        </p:nvPicPr>
        <p:blipFill>
          <a:blip r:embed="rId4"/>
          <a:stretch/>
        </p:blipFill>
        <p:spPr>
          <a:xfrm>
            <a:off x="2286000" y="4214880"/>
            <a:ext cx="237960" cy="457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4" descr=""/>
          <p:cNvPicPr/>
          <p:nvPr/>
        </p:nvPicPr>
        <p:blipFill>
          <a:blip r:embed="rId5"/>
          <a:stretch/>
        </p:blipFill>
        <p:spPr>
          <a:xfrm>
            <a:off x="1928880" y="5786280"/>
            <a:ext cx="23796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2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85880" y="2000160"/>
            <a:ext cx="7632720" cy="44128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ыносим </a:t>
            </a: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за скоб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х</a:t>
            </a: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(ах + в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2.   «Разбиваем» 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д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x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=</a:t>
            </a:r>
            <a:r>
              <a:rPr b="1" i="1" lang="en-US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0,  ах + в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.  Два реше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336600"/>
                </a:solidFill>
                <a:latin typeface="Bookman Old Style"/>
              </a:rPr>
              <a:t>х = 0  и  х =     (а≠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341440" y="357120"/>
            <a:ext cx="43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Алгоритм 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714840" y="1000080"/>
            <a:ext cx="165744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вх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3643200" y="5857920"/>
            <a:ext cx="266760" cy="495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1680" y="2357280"/>
            <a:ext cx="7786440" cy="2466720"/>
          </a:xfrm>
          <a:prstGeom prst="rect">
            <a:avLst/>
          </a:prstGeom>
          <a:solidFill>
            <a:srgbClr val="fde5cd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. Делим обе части уравнения на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а≠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2. Одно решение: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х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500120" y="5000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Алгоритм 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643200" y="1285920"/>
            <a:ext cx="158436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,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42920" y="1714680"/>
          <a:ext cx="8572320" cy="4587840"/>
        </p:xfrm>
        <a:graphic>
          <a:graphicData uri="http://schemas.openxmlformats.org/drawingml/2006/table">
            <a:tbl>
              <a:tblPr/>
              <a:tblGrid>
                <a:gridCol w="3832200"/>
                <a:gridCol w="4740120"/>
              </a:tblGrid>
              <a:tr h="863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1729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1995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сли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lt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0, то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рней н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сли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 то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5cd"/>
                    </a:solidFill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Неполные квадратные уравнения: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85880" y="1714680"/>
                <a:ext cx="28083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5335560" y="2660760"/>
                <a:ext cx="2073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2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785880" y="2714760"/>
                <a:ext cx="2881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Rectangle 14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5"/>
              <p:cNvSpPr txBox="1"/>
              <p:nvPr/>
            </p:nvSpPr>
            <p:spPr>
              <a:xfrm>
                <a:off x="5292720" y="1773360"/>
                <a:ext cx="2158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16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8"/>
              <p:cNvSpPr txBox="1"/>
              <p:nvPr/>
            </p:nvSpPr>
            <p:spPr>
              <a:xfrm>
                <a:off x="5500800" y="3214800"/>
                <a:ext cx="1726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19"/>
          <p:cNvSpPr/>
          <p:nvPr/>
        </p:nvSpPr>
        <p:spPr>
          <a:xfrm>
            <a:off x="1533600" y="26528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0"/>
              <p:cNvSpPr txBox="1"/>
              <p:nvPr/>
            </p:nvSpPr>
            <p:spPr>
              <a:xfrm>
                <a:off x="642960" y="4429080"/>
                <a:ext cx="287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Rectangle 21"/>
          <p:cNvSpPr/>
          <p:nvPr/>
        </p:nvSpPr>
        <p:spPr>
          <a:xfrm>
            <a:off x="1535040" y="2606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7"/>
              <p:cNvSpPr txBox="1"/>
              <p:nvPr/>
            </p:nvSpPr>
            <p:spPr>
              <a:xfrm>
                <a:off x="5072040" y="4286160"/>
                <a:ext cx="441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3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4929120" y="5072040"/>
                <a:ext cx="439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0"/>
              <p:cNvSpPr txBox="1"/>
              <p:nvPr/>
            </p:nvSpPr>
            <p:spPr>
              <a:xfrm>
                <a:off x="6715080" y="4857840"/>
                <a:ext cx="13683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1332000" y="692280"/>
                <a:ext cx="6049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2462040" y="1844640"/>
                <a:ext cx="33530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4"/>
          <p:cNvSpPr/>
          <p:nvPr/>
        </p:nvSpPr>
        <p:spPr>
          <a:xfrm>
            <a:off x="900000" y="3429000"/>
            <a:ext cx="18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D</a:t>
            </a:r>
            <a:r>
              <a:rPr b="1" lang="ru-RU" sz="2800" spc="-1" strike="noStrike" u="sng">
                <a:solidFill>
                  <a:srgbClr val="3366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&lt;</a:t>
            </a:r>
            <a:r>
              <a:rPr b="1" lang="ru-RU" sz="2800" spc="-1" strike="noStrike" u="sng">
                <a:solidFill>
                  <a:srgbClr val="3366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3429000"/>
            <a:ext cx="14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D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3132000" y="4149720"/>
                <a:ext cx="15112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7"/>
          <p:cNvSpPr/>
          <p:nvPr/>
        </p:nvSpPr>
        <p:spPr>
          <a:xfrm>
            <a:off x="5867280" y="3429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Tahoma"/>
              </a:rPr>
              <a:t>D 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5508720" y="4149720"/>
                <a:ext cx="1884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Line 9"/>
          <p:cNvSpPr/>
          <p:nvPr/>
        </p:nvSpPr>
        <p:spPr>
          <a:xfrm flipH="1">
            <a:off x="1763640" y="278136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780000" y="2781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5651640" y="285264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6923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85128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443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36560" y="44370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835280" y="18604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 = 2k  (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чётное числ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2195640" y="2565360"/>
                <a:ext cx="3600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979640" y="3860640"/>
                <a:ext cx="43927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1332000" y="549360"/>
                <a:ext cx="6049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755640" y="609480"/>
            <a:ext cx="7705800" cy="804960"/>
            <a:chOff x="755640" y="609480"/>
            <a:chExt cx="7705800" cy="80496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755640" y="609480"/>
              <a:ext cx="77058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5640" y="609480"/>
              <a:ext cx="770256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336600"/>
                  </a:solidFill>
                  <a:latin typeface="Bookman Old Style"/>
                </a:rPr>
                <a:t>Теорема Виета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Rectangle 3"/>
          <p:cNvSpPr/>
          <p:nvPr/>
        </p:nvSpPr>
        <p:spPr>
          <a:xfrm>
            <a:off x="0" y="247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500040" y="1428840"/>
                <a:ext cx="1440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6072120" y="1428840"/>
                <a:ext cx="2448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4643280" y="2214720"/>
                <a:ext cx="10796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1071720" y="2000160"/>
                <a:ext cx="610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9"/>
          <p:cNvSpPr/>
          <p:nvPr/>
        </p:nvSpPr>
        <p:spPr>
          <a:xfrm>
            <a:off x="2160" y="3191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2071800" y="2000160"/>
                <a:ext cx="2087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Rectangle 11"/>
          <p:cNvSpPr/>
          <p:nvPr/>
        </p:nvSpPr>
        <p:spPr>
          <a:xfrm>
            <a:off x="0" y="39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643040" y="1318320"/>
            <a:ext cx="6357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орни 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428760" y="364320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5"/>
          <p:cNvSpPr/>
          <p:nvPr/>
        </p:nvSpPr>
        <p:spPr>
          <a:xfrm>
            <a:off x="0" y="2492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6"/>
              <p:cNvSpPr txBox="1"/>
              <p:nvPr/>
            </p:nvSpPr>
            <p:spPr>
              <a:xfrm>
                <a:off x="6143760" y="3643200"/>
                <a:ext cx="2592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7"/>
          <p:cNvSpPr/>
          <p:nvPr/>
        </p:nvSpPr>
        <p:spPr>
          <a:xfrm>
            <a:off x="0" y="26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8"/>
              <p:cNvSpPr txBox="1"/>
              <p:nvPr/>
            </p:nvSpPr>
            <p:spPr>
              <a:xfrm>
                <a:off x="5219640" y="4508640"/>
                <a:ext cx="1152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9"/>
          <p:cNvSpPr/>
          <p:nvPr/>
        </p:nvSpPr>
        <p:spPr>
          <a:xfrm>
            <a:off x="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1071720" y="4286160"/>
                <a:ext cx="718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21"/>
          <p:cNvSpPr/>
          <p:nvPr/>
        </p:nvSpPr>
        <p:spPr>
          <a:xfrm>
            <a:off x="2160" y="3001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2"/>
              <p:cNvSpPr txBox="1"/>
              <p:nvPr/>
            </p:nvSpPr>
            <p:spPr>
              <a:xfrm>
                <a:off x="2071800" y="4214880"/>
                <a:ext cx="28098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Rectangle 23"/>
          <p:cNvSpPr/>
          <p:nvPr/>
        </p:nvSpPr>
        <p:spPr>
          <a:xfrm>
            <a:off x="1643040" y="3533040"/>
            <a:ext cx="63784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орни 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574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         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Суть метода: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привести квадратное уравнение общего вида к неполному квадратному уравнению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r>
              <a:rPr b="0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- 6х + 5 = 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5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042920" y="620640"/>
            <a:ext cx="77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выделения квадрата двучлен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рни квадратных уравнений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вязаны  соотношениям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900000" y="2349360"/>
                <a:ext cx="31273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5076720" y="2421000"/>
                <a:ext cx="307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643040" y="3571920"/>
                <a:ext cx="1943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5786280" y="3643200"/>
                <a:ext cx="1873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Text Box 7"/>
          <p:cNvSpPr/>
          <p:nvPr/>
        </p:nvSpPr>
        <p:spPr>
          <a:xfrm>
            <a:off x="684360" y="51577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39640" y="476280"/>
            <a:ext cx="774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«переброски» старшего коэффицие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2714760" y="528696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9х –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6600"/>
                </a:solidFill>
                <a:latin typeface="Bookman Old Style"/>
              </a:rPr>
              <a:t>На основании теорем:</a:t>
            </a:r>
            <a:endParaRPr b="0" lang="en-US" sz="46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 квадратном уравнении </a:t>
            </a:r>
            <a:r>
              <a:rPr b="1" i="1" lang="en-US" sz="2400" spc="-1" strike="noStrike">
                <a:solidFill>
                  <a:srgbClr val="336600"/>
                </a:solidFill>
                <a:latin typeface="Bookman Old Style"/>
              </a:rPr>
              <a:t>a+b+c=0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 один из корней равен 1, 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44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ой по теореме Виета равен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443640" y="2060640"/>
                <a:ext cx="498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539640" y="3573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 в квадратном уравнении </a:t>
            </a:r>
            <a:r>
              <a:rPr b="1" i="1" lang="en-US" sz="2400" spc="-1" strike="noStrike">
                <a:solidFill>
                  <a:srgbClr val="336600"/>
                </a:solidFill>
                <a:latin typeface="Bookman Old Style"/>
              </a:rPr>
              <a:t>a+c=b</a:t>
            </a:r>
            <a:r>
              <a:rPr b="1" i="1" lang="ru-RU" sz="2400" spc="-1" strike="noStrike">
                <a:solidFill>
                  <a:srgbClr val="336600"/>
                </a:solidFill>
                <a:latin typeface="Bookman Old Style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 один из корней равен (-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 второй  по теореме Виета рав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6786720" y="4143240"/>
                <a:ext cx="892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042920" y="5373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Примеры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3000240" y="54298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00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210х + 10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Прямоугольник 8" descr=""/>
          <p:cNvPicPr/>
          <p:nvPr/>
        </p:nvPicPr>
        <p:blipFill>
          <a:blip r:embed="rId1"/>
          <a:stretch/>
        </p:blipFill>
        <p:spPr>
          <a:xfrm>
            <a:off x="523800" y="2017800"/>
            <a:ext cx="8096400" cy="2493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разложения на множители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92000" y="1557360"/>
            <a:ext cx="684036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ривести квадратное уравнение общего вида к виду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Bookman Old Style"/>
              </a:rPr>
              <a:t>А(х)</a:t>
            </a:r>
            <a:r>
              <a:rPr b="1" lang="en-US" sz="2800" spc="-1" strike="noStrike">
                <a:solidFill>
                  <a:srgbClr val="f07f09"/>
                </a:solidFill>
                <a:latin typeface="Bookman Old Style"/>
              </a:rPr>
              <a:t>·</a:t>
            </a:r>
            <a:r>
              <a:rPr b="1" lang="ru-RU" sz="2800" spc="-1" strike="noStrike">
                <a:solidFill>
                  <a:srgbClr val="f07f09"/>
                </a:solidFill>
                <a:latin typeface="Bookman Old Style"/>
              </a:rPr>
              <a:t>В(х)=0,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где А(х) и В(х) – многочлены относительно х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84360" y="1557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03280" y="4508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несение общего множителя за скоб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пользование формул сокращенного умно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пособ группир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95440" y="407844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Способ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124000" y="5950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357800" y="60015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5х + 1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6600"/>
                </a:solidFill>
                <a:uFillTx/>
                <a:latin typeface="Bookman Old Style"/>
              </a:rPr>
              <a:t>Введение новой переменной.</a:t>
            </a:r>
            <a:endParaRPr b="0" lang="en-US" sz="36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76124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Умение удачно ввести новую переменную – важный элемент математической культуры. Удачный выбор новой переменной делает структуру уравнения более прозрачн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00000" y="486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286080" y="507240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2х+3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3(2х+3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Графический метод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37560" cy="27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Для решения уравнения 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f(x)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=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g(x)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необходимо построить графики функций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y = f(x),</a:t>
            </a: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Bookman Old Style"/>
              </a:rPr>
              <a:t> y = g(x)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и найти точки их пересечения;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абсциссы точек пересечения и будут корнями уравнени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332000" y="5084640"/>
            <a:ext cx="21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Bookman Old Style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717360" y="5216040"/>
            <a:ext cx="12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х+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Графический метод часто применяют не для нахождения корней уравнения, а для определения их количества.</a:t>
            </a:r>
            <a:r>
              <a:rPr b="0" lang="ru-RU" sz="2400" spc="-1" strike="noStrike">
                <a:solidFill>
                  <a:srgbClr val="323232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11"/>
          <p:cNvCxnSpPr/>
          <p:nvPr/>
        </p:nvCxnSpPr>
        <p:spPr>
          <a:xfrm flipV="1">
            <a:off x="85320" y="120240"/>
            <a:ext cx="1080" cy="2791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Text Box 6"/>
          <p:cNvSpPr/>
          <p:nvPr/>
        </p:nvSpPr>
        <p:spPr>
          <a:xfrm>
            <a:off x="-68400" y="3240"/>
            <a:ext cx="295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8160" y="6480"/>
            <a:ext cx="295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18"/>
          <p:cNvCxnSpPr/>
          <p:nvPr/>
        </p:nvCxnSpPr>
        <p:spPr>
          <a:xfrm flipV="1">
            <a:off x="85320" y="120240"/>
            <a:ext cx="1080" cy="2791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-68400" y="3240"/>
            <a:ext cx="295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38160" y="6480"/>
            <a:ext cx="295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t 1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4664160" cy="426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4286160" y="2357280"/>
            <a:ext cx="209520" cy="276480"/>
          </a:xfrm>
          <a:prstGeom prst="rect">
            <a:avLst/>
          </a:prstGeom>
          <a:ln w="0">
            <a:noFill/>
          </a:ln>
        </p:spPr>
      </p:pic>
      <p:cxnSp>
        <p:nvCxnSpPr>
          <p:cNvPr id="248" name="Прямая со стрелкой 17"/>
          <p:cNvCxnSpPr/>
          <p:nvPr/>
        </p:nvCxnSpPr>
        <p:spPr>
          <a:xfrm>
            <a:off x="2071440" y="5214960"/>
            <a:ext cx="3143880" cy="2160"/>
          </a:xfrm>
          <a:prstGeom prst="straightConnector1">
            <a:avLst/>
          </a:prstGeom>
          <a:ln w="2844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249" name="Прямая со стрелкой 19"/>
          <p:cNvCxnSpPr/>
          <p:nvPr/>
        </p:nvCxnSpPr>
        <p:spPr>
          <a:xfrm flipV="1">
            <a:off x="3571920" y="2858400"/>
            <a:ext cx="2160" cy="2499480"/>
          </a:xfrm>
          <a:prstGeom prst="straightConnector1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250" name="Прямая соединительная линия 22"/>
          <p:cNvSpPr/>
          <p:nvPr/>
        </p:nvSpPr>
        <p:spPr>
          <a:xfrm flipV="1">
            <a:off x="2500200" y="4143240"/>
            <a:ext cx="2428920" cy="1214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0872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выделения квадрата двучлена.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52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429080" y="5288760"/>
            <a:ext cx="41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(a + b)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= a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+ 2ab + b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(a - b)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= a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- 2ab + b</a:t>
            </a:r>
            <a:r>
              <a:rPr b="1" lang="en-US" sz="2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2071800" y="1869120"/>
            <a:ext cx="4714920" cy="283824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м уравнение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х</a:t>
            </a:r>
            <a:r>
              <a:rPr b="1" lang="ru-RU" sz="2000" spc="-1" strike="noStrike" baseline="30000">
                <a:solidFill>
                  <a:srgbClr val="00206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- 6х +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6х +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х -3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4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х -3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3 = 2;  х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3 = -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 = 5, х 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;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“переброски” старшего коэффициента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58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3857760" y="5147280"/>
            <a:ext cx="4857480" cy="946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ax</a:t>
            </a:r>
            <a:r>
              <a:rPr b="1" lang="ru-RU" sz="1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bx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c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= 0 и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y</a:t>
            </a:r>
            <a:r>
              <a:rPr b="1" lang="ru-RU" sz="1400" spc="-1" strike="noStrike" baseline="30000">
                <a:solidFill>
                  <a:srgbClr val="000080"/>
                </a:solidFill>
                <a:latin typeface="Bookman Old Style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by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+ </a:t>
            </a:r>
            <a:r>
              <a:rPr b="1" lang="en-US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ac </a:t>
            </a: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Bookman Old Styl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вязаны соотношениям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6572160" y="5429160"/>
                <a:ext cx="785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3"/>
              <p:cNvSpPr txBox="1"/>
              <p:nvPr/>
            </p:nvSpPr>
            <p:spPr>
              <a:xfrm>
                <a:off x="7715160" y="5429160"/>
                <a:ext cx="8510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12"/>
          <p:cNvSpPr/>
          <p:nvPr/>
        </p:nvSpPr>
        <p:spPr>
          <a:xfrm>
            <a:off x="571680" y="1728000"/>
            <a:ext cx="5429160" cy="314316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2х</a:t>
            </a:r>
            <a:r>
              <a:rPr b="1" lang="ru-RU" sz="2000" spc="-1" strike="noStrike" baseline="30000">
                <a:solidFill>
                  <a:srgbClr val="00206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- 9х 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5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9у - 10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&gt;0, по теореме, обратной теореме Виета, получаем корни: -1; 1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алее возвращаемся к корням исходного уравнения: - 0,5;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: 5; -0,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Bookman Old Style"/>
              </a:rPr>
              <a:t>Теорема 1.</a:t>
            </a:r>
            <a:r>
              <a:rPr b="1" lang="ru-RU" sz="2400" spc="-1" strike="noStrike" u="sng">
                <a:solidFill>
                  <a:srgbClr val="323232"/>
                </a:solidFill>
                <a:uFillTx/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23232"/>
                </a:solidFill>
                <a:latin typeface="Bookman Old Style"/>
              </a:rPr>
              <a:t>Если в квадратном уравнении</a:t>
            </a:r>
            <a:br>
              <a:rPr sz="2400"/>
            </a:br>
            <a:r>
              <a:rPr b="1" lang="ru-RU" sz="2400" spc="-1" strike="noStrike">
                <a:solidFill>
                  <a:srgbClr val="323232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a + b + c = 0</a:t>
            </a:r>
            <a:r>
              <a:rPr b="1" lang="ru-RU" sz="2400" spc="-1" strike="noStrike">
                <a:solidFill>
                  <a:srgbClr val="323232"/>
                </a:solidFill>
                <a:latin typeface="Bookman Old Style"/>
              </a:rPr>
              <a:t>, то один из корней равен 1, а второй по теореме Виета равен</a:t>
            </a:r>
            <a:endParaRPr b="0" lang="en-US" sz="24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66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1"/>
              <p:cNvSpPr txBox="1"/>
              <p:nvPr/>
            </p:nvSpPr>
            <p:spPr>
              <a:xfrm>
                <a:off x="6143760" y="1214280"/>
                <a:ext cx="50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14"/>
          <p:cNvSpPr/>
          <p:nvPr/>
        </p:nvSpPr>
        <p:spPr>
          <a:xfrm>
            <a:off x="428760" y="2114640"/>
            <a:ext cx="6215040" cy="319752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137х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+ 20х </a:t>
            </a:r>
            <a:r>
              <a:rPr b="1" lang="ru-RU" sz="20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157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37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2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157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= 137, b = 20, c = -15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+ b+ c = 137 + 20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157 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Ответ: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1;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4461120" y="1452960"/>
            <a:ext cx="22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6" descr=""/>
          <p:cNvPicPr/>
          <p:nvPr/>
        </p:nvPicPr>
        <p:blipFill>
          <a:blip r:embed="rId1"/>
          <a:stretch/>
        </p:blipFill>
        <p:spPr>
          <a:xfrm>
            <a:off x="1357200" y="4286160"/>
            <a:ext cx="552600" cy="409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8" descr=""/>
          <p:cNvPicPr/>
          <p:nvPr/>
        </p:nvPicPr>
        <p:blipFill>
          <a:blip r:embed="rId2"/>
          <a:stretch/>
        </p:blipFill>
        <p:spPr>
          <a:xfrm>
            <a:off x="1500120" y="3643200"/>
            <a:ext cx="1447920" cy="49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Bookman Old Style"/>
              </a:rPr>
              <a:t>Теорема 2.</a:t>
            </a: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сли в квадратном уравнении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a + c = b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, то один из корней равен (-1), а второй по теореме Виета равен</a:t>
            </a:r>
            <a:r>
              <a:rPr b="0" lang="ru-RU" sz="4800" spc="-1" strike="noStrike">
                <a:solidFill>
                  <a:srgbClr val="323232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77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6286680" y="1285920"/>
                <a:ext cx="684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1" name="Rectangle 11"/>
          <p:cNvSpPr/>
          <p:nvPr/>
        </p:nvSpPr>
        <p:spPr>
          <a:xfrm>
            <a:off x="500040" y="2337840"/>
            <a:ext cx="5786640" cy="197784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равнение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200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Bookman Old Style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+ 210х + 10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00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210х + 10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= 200, b = 210, c =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 + c = 200 + 10 = 210 =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-1,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2357280" y="3929040"/>
                <a:ext cx="3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Прямоугольник 14"/>
          <p:cNvSpPr/>
          <p:nvPr/>
        </p:nvSpPr>
        <p:spPr>
          <a:xfrm>
            <a:off x="677520" y="4786200"/>
            <a:ext cx="1870560" cy="3682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1; -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1342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разложения на множители.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86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428760" y="1588320"/>
            <a:ext cx="6000480" cy="375300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4х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+ 5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5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4х + 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(х+1) + (х+1)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(х + 1)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изведение двух множителей равно нулю, если хотя бы один из них равен нулю, а второй при этом не теряет смысла, или когда оба равны ну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х = 0,  х + 1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х = 0,    х =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0;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96000" cy="3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Метод введения новой переменной.</a:t>
            </a:r>
            <a:endParaRPr b="0" lang="en-US" sz="3200" spc="-1" strike="noStrike">
              <a:solidFill>
                <a:srgbClr val="323232"/>
              </a:solidFill>
              <a:latin typeface="Arial Narrow"/>
            </a:endParaRPr>
          </a:p>
        </p:txBody>
      </p:sp>
      <p:sp>
        <p:nvSpPr>
          <p:cNvPr id="291" name="Freeform 3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75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2935440"/>
            <a:ext cx="874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760" y="1702800"/>
            <a:ext cx="6072120" cy="288612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шите уравнение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(2х+3)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man Old Style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= 3(2х+3)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2х+3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3(2х+3)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усть: t = 2х +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изведем замену переменной: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- 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-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+ 2 = 0.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&gt;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 теореме, обратной теореме Виета: t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1, t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=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изведем обратную замену и вернемся к переменной х, получим следующие корн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1; -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1; -0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Rectangle 2"/>
          <p:cNvGrpSpPr/>
          <p:nvPr/>
        </p:nvGrpSpPr>
        <p:grpSpPr>
          <a:xfrm>
            <a:off x="689040" y="609480"/>
            <a:ext cx="7772040" cy="1146240"/>
            <a:chOff x="689040" y="609480"/>
            <a:chExt cx="7772040" cy="1146240"/>
          </a:xfrm>
        </p:grpSpPr>
        <p:pic>
          <p:nvPicPr>
            <p:cNvPr id="67" name="Rectangle 2" descr=""/>
            <p:cNvPicPr/>
            <p:nvPr/>
          </p:nvPicPr>
          <p:blipFill>
            <a:blip r:embed="rId1"/>
            <a:stretch/>
          </p:blipFill>
          <p:spPr>
            <a:xfrm>
              <a:off x="691920" y="609480"/>
              <a:ext cx="77691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9040" y="609480"/>
              <a:ext cx="7769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 u="sng">
                  <a:solidFill>
                    <a:srgbClr val="336600"/>
                  </a:solidFill>
                  <a:uFillTx/>
                  <a:latin typeface="Bookman Old Style"/>
                </a:rPr>
                <a:t>Специальные методы: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900000" y="2060640"/>
            <a:ext cx="82440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етод выделения квадратного двучл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Метод «переброски» старшего коэффициен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Bookman Old Style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На основании теор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948360" y="5877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Rectangle 2"/>
          <p:cNvGrpSpPr/>
          <p:nvPr/>
        </p:nvGrpSpPr>
        <p:grpSpPr>
          <a:xfrm>
            <a:off x="1262160" y="401760"/>
            <a:ext cx="6705000" cy="1036440"/>
            <a:chOff x="1262160" y="401760"/>
            <a:chExt cx="6705000" cy="1036440"/>
          </a:xfrm>
        </p:grpSpPr>
        <p:pic>
          <p:nvPicPr>
            <p:cNvPr id="73" name="Rectangle 2" descr=""/>
            <p:cNvPicPr/>
            <p:nvPr/>
          </p:nvPicPr>
          <p:blipFill>
            <a:blip r:embed="rId1"/>
            <a:stretch/>
          </p:blipFill>
          <p:spPr>
            <a:xfrm>
              <a:off x="1265040" y="401760"/>
              <a:ext cx="670212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62160" y="404640"/>
              <a:ext cx="670392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336600"/>
                  </a:solidFill>
                  <a:uFillTx/>
                  <a:latin typeface="Bookman Old Style"/>
                </a:rPr>
                <a:t>Общие  методы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6760" y="2142720"/>
            <a:ext cx="8132760" cy="37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Разложение на множители;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53820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Введение новой переменной;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53820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Графический метод</a:t>
            </a: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1314000" y="2612160"/>
            <a:ext cx="68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319760" y="3534480"/>
            <a:ext cx="436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11280" y="54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первые ввёл термин «квадратное уравнение» немецкий филосо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1"/>
          <p:cNvSpPr/>
          <p:nvPr/>
        </p:nvSpPr>
        <p:spPr>
          <a:xfrm flipV="1" rot="10800000">
            <a:off x="3850920" y="2117520"/>
            <a:ext cx="49006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 знаменитый  немецкий философ, родился в 1679 г. в Бреславле, в  семье простого  ремесленника, изучал в Йене сначала богословие, потом математику и  философ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871560" y="1682640"/>
            <a:ext cx="2494080" cy="349272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8" descr=""/>
          <p:cNvPicPr/>
          <p:nvPr/>
        </p:nvPicPr>
        <p:blipFill>
          <a:blip r:embed="rId2"/>
          <a:stretch/>
        </p:blipFill>
        <p:spPr>
          <a:xfrm>
            <a:off x="3870360" y="853920"/>
            <a:ext cx="373680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0" descr=""/>
          <p:cNvPicPr/>
          <p:nvPr/>
        </p:nvPicPr>
        <p:blipFill>
          <a:blip r:embed="rId3"/>
          <a:stretch/>
        </p:blipFill>
        <p:spPr>
          <a:xfrm>
            <a:off x="3786120" y="1925640"/>
            <a:ext cx="3956040" cy="744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95280" y="1000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549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                                              –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нглийский математик, который ввёл термин «дискриминан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4" descr="сильвестр"/>
          <p:cNvPicPr/>
          <p:nvPr/>
        </p:nvPicPr>
        <p:blipFill>
          <a:blip r:embed="rId1"/>
          <a:stretch/>
        </p:blipFill>
        <p:spPr>
          <a:xfrm>
            <a:off x="3981600" y="1700280"/>
            <a:ext cx="4168800" cy="37926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2"/>
          <a:stretch/>
        </p:blipFill>
        <p:spPr>
          <a:xfrm>
            <a:off x="304920" y="426960"/>
            <a:ext cx="5541840" cy="74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611280" y="76500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13 – 16 веках даются отдельные методы решения различных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идов квадратных уравнений. Слияние этих методов произвел в 1544 году немецкий математик –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Это было настоящее событие в математи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Штифель"/>
          <p:cNvPicPr/>
          <p:nvPr/>
        </p:nvPicPr>
        <p:blipFill>
          <a:blip r:embed="rId1"/>
          <a:stretch/>
        </p:blipFill>
        <p:spPr>
          <a:xfrm>
            <a:off x="3267000" y="2341440"/>
            <a:ext cx="3633840" cy="30783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615960" y="1590840"/>
            <a:ext cx="3402000" cy="62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2"/>
          <p:cNvGrpSpPr/>
          <p:nvPr/>
        </p:nvGrpSpPr>
        <p:grpSpPr>
          <a:xfrm>
            <a:off x="542880" y="768240"/>
            <a:ext cx="8388000" cy="1139760"/>
            <a:chOff x="542880" y="768240"/>
            <a:chExt cx="8388000" cy="1139760"/>
          </a:xfrm>
        </p:grpSpPr>
        <p:pic>
          <p:nvPicPr>
            <p:cNvPr id="91" name="Rectangle 2" descr=""/>
            <p:cNvPicPr/>
            <p:nvPr/>
          </p:nvPicPr>
          <p:blipFill>
            <a:blip r:embed="rId1"/>
            <a:stretch/>
          </p:blipFill>
          <p:spPr>
            <a:xfrm>
              <a:off x="545760" y="771120"/>
              <a:ext cx="838512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2880" y="768240"/>
              <a:ext cx="838512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6600"/>
                  </a:solidFill>
                  <a:latin typeface="Bookman Old Style"/>
                </a:rPr>
                <a:t>Энциклопедия</a:t>
              </a:r>
              <a:br>
                <a:rPr sz="4000"/>
              </a:br>
              <a:r>
                <a:rPr b="1" lang="ru-RU" sz="4000" spc="-1" strike="noStrike">
                  <a:solidFill>
                    <a:srgbClr val="336600"/>
                  </a:solidFill>
                  <a:latin typeface="Bookman Old Style"/>
                </a:rPr>
                <a:t> квадратного уравнени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176480" y="2725560"/>
                <a:ext cx="623880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6"/>
          <p:cNvSpPr/>
          <p:nvPr/>
        </p:nvSpPr>
        <p:spPr>
          <a:xfrm>
            <a:off x="971640" y="30114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3263760" y="4230720"/>
                <a:ext cx="1973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2"/>
          <p:cNvSpPr/>
          <p:nvPr/>
        </p:nvSpPr>
        <p:spPr>
          <a:xfrm rot="765000">
            <a:off x="539640" y="2752200"/>
            <a:ext cx="7925040" cy="410544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4105440"/>
              <a:gd name="textAreaBottom" fmla="*/ 4105800 h 4105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b26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gradFill rotWithShape="0">
            <a:gsLst>
              <a:gs pos="0">
                <a:srgbClr val="b7dcb2"/>
              </a:gs>
              <a:gs pos="100000">
                <a:srgbClr val="ecf6ea"/>
              </a:gs>
            </a:gsLst>
            <a:lin ang="16200000"/>
          </a:gradFill>
          <a:ln w="9360">
            <a:solidFill>
              <a:srgbClr val="4b84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Bookman Old Style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Bookman Old Style"/>
              </a:rPr>
              <a:t>НЕПОЛНЫХ   КВАДРАТНЫХ  УРАВН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+вх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,с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х</a:t>
            </a:r>
            <a:r>
              <a:rPr b="1" lang="ru-RU" sz="2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4:47:51Z</dcterms:created>
  <dc:creator>ЮРКО</dc:creator>
  <dc:description/>
  <dc:language>en-US</dc:language>
  <cp:lastModifiedBy>26519</cp:lastModifiedBy>
  <dcterms:modified xsi:type="dcterms:W3CDTF">2010-06-04T12:48:51Z</dcterms:modified>
  <cp:revision>327</cp:revision>
  <dc:subject/>
  <dc:title>Квадратное уравнение, музыкальное сопровождение</dc:title>
</cp:coreProperties>
</file>